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6123-E9CC-4532-B1CC-FAC45B1695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9433-9984-49EB-8E49-1C89AA6950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25825-B06A-4C1A-AAB4-9D21E3783F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11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A76B-4A93-4181-BC03-5B9A77AF68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5905-4D50-43BE-B049-0E4448D26F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C200-946B-40F6-8764-95976CC060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2441-5C29-408F-B80B-E27ED3785F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F617-D465-4582-AAA9-865EB25039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655E-349A-4ABF-846A-3501E13EDA7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C2D5-63E4-43B4-A93A-6D2DB20E42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41D4-86CF-4FF7-8012-E95806AAB5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8BCA-B4D8-40E1-8B1D-067451799E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B34B-C25E-459F-9E60-030738ADE2B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31F5-452F-49EF-B83D-682B6EE1C7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1D10-CAA2-40B7-B49B-E46DA239B6F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8ADA-B1ED-47F8-9F6F-2DE4AD3202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85DB-55B7-44B4-A7CB-E117D52FD50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F74D-2A8D-4601-A5ED-F09A734FA8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F40C-2711-4271-B138-B7554E21D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A32C-DC3E-4CFF-B2AC-ADAEA865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0F74-6E90-4B67-A340-C574910F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1F80-50D3-405E-B399-859DB92B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2A5A-2279-4A22-9F91-1B2D2AE7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D2F0-7B0E-4BBA-A9FC-762E4002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7513-E8DF-48D8-9001-F1E46045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0C84-28F6-447B-AA95-3A35509D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FAF4-9AAE-4D80-8053-60C447B2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7E94-2E96-4F09-BCE5-21D6ED7E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65E7-4F1B-4DB3-85FF-F501D57A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DB81-A8D1-49EA-A9AD-FD629B15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72DFB-157A-4FB2-88CF-D527993E3A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F25E-0E45-4874-9299-1B2CCC0F7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ма.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666960" y="2335320"/>
            <a:ext cx="1810080" cy="3057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некоторые спирты и кислоты неограниченно растворимы в во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аномально высокие температуры кипения и плавле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= 18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= 4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10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t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ип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Н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7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л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H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=  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водородные связи способствуют образованию кристаллов в виде снежинок или изморос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Рисунок 5" descr="C:\Documents and Settings\Дом\Рабочий стол\Снежинка.jpg"/>
          <p:cNvPicPr/>
          <p:nvPr/>
        </p:nvPicPr>
        <p:blipFill>
          <a:blip r:embed="rId1"/>
          <a:stretch/>
        </p:blipFill>
        <p:spPr>
          <a:xfrm>
            <a:off x="3328920" y="4054320"/>
            <a:ext cx="2247840" cy="195120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нутри молекул белков (водородная связь удерживает витки спирали пептидной молекулы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C:\Documents and Settings\Дом\Рабочий стол\Белок.jpg"/>
          <p:cNvPicPr/>
          <p:nvPr/>
        </p:nvPicPr>
        <p:blipFill>
          <a:blip r:embed="rId1"/>
          <a:stretch/>
        </p:blipFill>
        <p:spPr>
          <a:xfrm>
            <a:off x="3962520" y="3429000"/>
            <a:ext cx="1600200" cy="27036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нутримолекулярная водородная связ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никае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внутри молекулы ДНК (между азотистыми основаниями по принципу комплементарности:  А – Т , Ц – Г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4724640" cy="28191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начение внутримолекуляр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особствует образованию молекул белков и ДН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ределяет функционирование ДНК и РНК (репликация, транскрипция, трансляция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ханизм образования водородной связ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4040280" cy="311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Электростатическое притяжение атома водорода, имеющего частично положительный  заряд, и атома кислорода (фтора или азота), имеющего частично отрицательный заря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4724280"/>
            <a:ext cx="40402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–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⁻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. 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– 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288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норно-акцепторное взаимодействие между почти свободной орбиталью атома водорода и неподеленной электронной  парой  атома кислорода (фтора или азот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Рисунок 3" descr=""/>
          <p:cNvPicPr/>
          <p:nvPr/>
        </p:nvPicPr>
        <p:blipFill>
          <a:blip r:embed="rId1"/>
          <a:stretch/>
        </p:blipFill>
        <p:spPr>
          <a:xfrm>
            <a:off x="5410080" y="4876920"/>
            <a:ext cx="1781280" cy="1162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, разрушающие  водородную связь в белковой молекуле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енатурирующие фактор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5" descr="C:\Documents and Settings\Дом\Мои документы\Отбойный.jpeg"/>
          <p:cNvPicPr/>
          <p:nvPr/>
        </p:nvPicPr>
        <p:blipFill>
          <a:blip r:embed="rId1"/>
          <a:stretch/>
        </p:blipFill>
        <p:spPr>
          <a:xfrm>
            <a:off x="685800" y="2057400"/>
            <a:ext cx="1523880" cy="1219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C:\Documents and Settings\Дом\Мои документы\Высокие темп.jpg"/>
          <p:cNvPicPr/>
          <p:nvPr/>
        </p:nvPicPr>
        <p:blipFill>
          <a:blip r:embed="rId2"/>
          <a:stretch/>
        </p:blipFill>
        <p:spPr>
          <a:xfrm>
            <a:off x="3276720" y="1981080"/>
            <a:ext cx="1371600" cy="2057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C:\Documents and Settings\Дом\Мои документы\Эл-магн.jpg"/>
          <p:cNvPicPr/>
          <p:nvPr/>
        </p:nvPicPr>
        <p:blipFill>
          <a:blip r:embed="rId3"/>
          <a:stretch/>
        </p:blipFill>
        <p:spPr>
          <a:xfrm>
            <a:off x="6095880" y="2057400"/>
            <a:ext cx="2073240" cy="148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C:\Documents and Settings\Дом\Мои документы\Хим. в-ва.gif"/>
          <p:cNvPicPr/>
          <p:nvPr/>
        </p:nvPicPr>
        <p:blipFill>
          <a:blip r:embed="rId4"/>
          <a:stretch/>
        </p:blipFill>
        <p:spPr>
          <a:xfrm>
            <a:off x="533520" y="4876920"/>
            <a:ext cx="2057400" cy="167616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9"/>
          <p:cNvSpPr/>
          <p:nvPr/>
        </p:nvSpPr>
        <p:spPr>
          <a:xfrm>
            <a:off x="5943600" y="38098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лектромагнитное излу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0"/>
          <p:cNvSpPr/>
          <p:nvPr/>
        </p:nvSpPr>
        <p:spPr>
          <a:xfrm>
            <a:off x="838080" y="33526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иб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11"/>
          <p:cNvSpPr/>
          <p:nvPr/>
        </p:nvSpPr>
        <p:spPr>
          <a:xfrm>
            <a:off x="2834640" y="4114800"/>
            <a:ext cx="21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ысокие температу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2"/>
          <p:cNvSpPr/>
          <p:nvPr/>
        </p:nvSpPr>
        <p:spPr>
          <a:xfrm>
            <a:off x="2908080" y="6019920"/>
            <a:ext cx="20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Химические вещ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имическую связь между атомами водорода одной молекулы (или её части) и атомами наиболее электоротрицательных элементов (фтор, кислород, азот) другой молекулы (или её части) называют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одородно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80880" y="3657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2895480" y="4191120"/>
            <a:ext cx="2895840" cy="17524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жмолекулярна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между  молекулами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нутримолекулярна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419360" y="213336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озникает  внутр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лекулы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6" descr=""/>
          <p:cNvPicPr/>
          <p:nvPr/>
        </p:nvPicPr>
        <p:blipFill>
          <a:blip r:embed="rId1"/>
          <a:stretch/>
        </p:blipFill>
        <p:spPr>
          <a:xfrm>
            <a:off x="685800" y="34290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7" descr=""/>
          <p:cNvPicPr/>
          <p:nvPr/>
        </p:nvPicPr>
        <p:blipFill>
          <a:blip r:embed="rId2"/>
          <a:stretch/>
        </p:blipFill>
        <p:spPr>
          <a:xfrm>
            <a:off x="5638680" y="3429000"/>
            <a:ext cx="198144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052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между молекулами вод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Рисунок 19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1933560" cy="23623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между молекулами аммиа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3352680" cy="14479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между молекулами спиртов (метанол, этанол, пропанол, этиленгликоль, глицери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Рисунок 3" descr=""/>
          <p:cNvPicPr/>
          <p:nvPr/>
        </p:nvPicPr>
        <p:blipFill>
          <a:blip r:embed="rId1"/>
          <a:stretch/>
        </p:blipFill>
        <p:spPr>
          <a:xfrm>
            <a:off x="1600200" y="3505320"/>
            <a:ext cx="5638680" cy="228600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4)между молекулами карбоновых кислот              (муравьиная, уксусная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димеры карбоновых кисло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Рисунок 3" descr=""/>
          <p:cNvPicPr/>
          <p:nvPr/>
        </p:nvPicPr>
        <p:blipFill>
          <a:blip r:embed="rId1"/>
          <a:stretch/>
        </p:blipFill>
        <p:spPr>
          <a:xfrm>
            <a:off x="2895480" y="3886200"/>
            <a:ext cx="2932200" cy="154296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ежмолекулярная водородная связ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)Между молекулами фтороводор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 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δ+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 δ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 –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 δ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собые свойства веществ, образованных межмолекулярной водородной связь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ещества с низкой молекулярной массой – жидкости или легко сжижаемые газ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(вода, метанол, этанол, муравьиная кислота, уксусная кислота, фтороводород, аммиак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C:\Documents and Settings\Дом\Мои документы\Этиловый спирт.jpg"/>
          <p:cNvPicPr/>
          <p:nvPr/>
        </p:nvPicPr>
        <p:blipFill>
          <a:blip r:embed="rId1"/>
          <a:stretch/>
        </p:blipFill>
        <p:spPr>
          <a:xfrm>
            <a:off x="3657600" y="4343400"/>
            <a:ext cx="1103400" cy="16574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C:\Documents and Settings\Дом\Мои документы\Уксус.jpg"/>
          <p:cNvPicPr/>
          <p:nvPr/>
        </p:nvPicPr>
        <p:blipFill>
          <a:blip r:embed="rId2"/>
          <a:stretch/>
        </p:blipFill>
        <p:spPr>
          <a:xfrm>
            <a:off x="6477120" y="4267080"/>
            <a:ext cx="1143000" cy="190512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C:\Documents and Settings\Дом\Мои документы\вода.jpg"/>
          <p:cNvPicPr/>
          <p:nvPr/>
        </p:nvPicPr>
        <p:blipFill>
          <a:blip r:embed="rId3"/>
          <a:stretch/>
        </p:blipFill>
        <p:spPr>
          <a:xfrm>
            <a:off x="838080" y="4343400"/>
            <a:ext cx="1257480" cy="157176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LEGION</cp:lastModifiedBy>
  <dcterms:modified xsi:type="dcterms:W3CDTF">2015-05-01T11:11:47Z</dcterms:modified>
  <cp:revision>39</cp:revision>
  <dc:subject/>
  <dc:title>Водородная связь</dc:title>
</cp:coreProperties>
</file>